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9CA4-D930-4F29-9B75-49716D3E38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封面页，需列出课程编码、课程名称和课程开发室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要求：每个子课程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位编码的课程）要求做一个这样的胶片，胶片文件命名为“课程编码 课程名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ppt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不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页按产品分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个，各产品使用自己的封面，把其他封面直接删除即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7391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95280" y="6478560"/>
            <a:ext cx="2089080" cy="217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D705-C2C0-4F0A-97B2-1D7AE17C66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7480" y="301680"/>
            <a:ext cx="1295640" cy="77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08360" y="5300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68360" y="6583320"/>
            <a:ext cx="46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华为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Com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司版权所有，未经授权不得使用与传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L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备份中心原理及配置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0" y="3284280"/>
            <a:ext cx="237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SUE  4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主备接口切换条件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1413000"/>
            <a:ext cx="763272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Arial"/>
              </a:rPr>
              <a:t>在主接口视图下配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设置从主接口切换到备用接口的延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standby timer enable-delay </a:t>
            </a:r>
            <a:r>
              <a:rPr b="0" i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设置从备用接口切换到主接口的延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standby timer disable-delay </a:t>
            </a:r>
            <a:r>
              <a:rPr b="0" i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设置逻辑通道状态的判断条件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1268280"/>
            <a:ext cx="8424720" cy="47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若主接口是逻辑通道，还需设置逻辑通道状态的判断条件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Arial"/>
              </a:rPr>
              <a:t>在主接口视图下配置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设置主逻辑通道状态为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down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的条件：若呼叫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times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次仍未成功，则认为逻辑通道的状态为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333399"/>
                </a:solidFill>
                <a:latin typeface="Arial"/>
                <a:ea typeface="Arial"/>
              </a:rPr>
              <a:t>          </a:t>
            </a:r>
            <a:r>
              <a:rPr b="1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standby state-down </a:t>
            </a:r>
            <a:r>
              <a:rPr b="0" i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检测主逻辑通道是否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up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：为了判定逻辑通道的状态是否恢复为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up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，设置间隔时间以定时检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r>
              <a:rPr b="1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standby state-up</a:t>
            </a:r>
            <a:r>
              <a:rPr b="0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i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interval-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备份负载分担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105264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负载分担：当流量超过一定限度时启动备份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在主接口视图下配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standby threshold</a:t>
            </a:r>
            <a:r>
              <a:rPr b="0" i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 enable-threshold disable-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其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enable-threshold</a:t>
            </a:r>
            <a:r>
              <a:rPr b="0" i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：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流量上限百分比（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0-99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），超过此上限时启动备份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disable-threshold</a:t>
            </a:r>
            <a:r>
              <a:rPr b="0" i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：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流量下限百分比（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0-99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），低于此下限时关闭备份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492360" y="364500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3492360" y="1989000"/>
            <a:ext cx="297000" cy="304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43480" y="242100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56080" y="327168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22160" y="1746360"/>
            <a:ext cx="152172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什么是备份中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备份中心基本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配置实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3492360" y="284004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543480" y="417528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示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05080" y="4078440"/>
            <a:ext cx="6480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组网需求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以太口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0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的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IP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地址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Router1(130.1.1.1)   Router 2(131.1.1.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主接口：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Serial0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封装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PPP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备份接口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:Serial1(dialer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口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84360" y="1052640"/>
            <a:ext cx="10151280" cy="3022920"/>
            <a:chOff x="684360" y="1052640"/>
            <a:chExt cx="10151280" cy="3022920"/>
          </a:xfrm>
        </p:grpSpPr>
        <p:grpSp>
          <p:nvGrpSpPr>
            <p:cNvPr id="286" name=""/>
            <p:cNvGrpSpPr/>
            <p:nvPr/>
          </p:nvGrpSpPr>
          <p:grpSpPr>
            <a:xfrm>
              <a:off x="684360" y="1052640"/>
              <a:ext cx="10151280" cy="3022920"/>
              <a:chOff x="684360" y="1052640"/>
              <a:chExt cx="10151280" cy="30229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08000" y="2031480"/>
                <a:ext cx="878760" cy="78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56720" y="1581480"/>
                <a:ext cx="91944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zh-CN" sz="1600" spc="-1" strike="noStrike">
                    <a:solidFill>
                      <a:srgbClr val="333399"/>
                    </a:solidFill>
                    <a:latin typeface="Arial"/>
                    <a:ea typeface="黑体"/>
                  </a:rPr>
                  <a:t>路由器</a:t>
                </a:r>
                <a:r>
                  <a:rPr b="0" lang="zh-CN" sz="1600" spc="-1" strike="noStrike">
                    <a:solidFill>
                      <a:srgbClr val="333399"/>
                    </a:solidFill>
                    <a:latin typeface="Arial"/>
                    <a:ea typeface="黑体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037360" y="1422360"/>
                <a:ext cx="7765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zh-CN" sz="1600" spc="-1" strike="noStrike">
                    <a:solidFill>
                      <a:srgbClr val="333399"/>
                    </a:solidFill>
                    <a:latin typeface="Arial"/>
                    <a:ea typeface="黑体"/>
                  </a:rPr>
                  <a:t>路由器</a:t>
                </a:r>
                <a:r>
                  <a:rPr b="0" lang="zh-CN" sz="1600" spc="-1" strike="noStrike">
                    <a:solidFill>
                      <a:srgbClr val="333399"/>
                    </a:solidFill>
                    <a:latin typeface="Arial"/>
                    <a:ea typeface="黑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71800" y="2797200"/>
                <a:ext cx="80784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dem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973120" y="2802600"/>
                <a:ext cx="79236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d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09520" y="2541600"/>
                <a:ext cx="878760" cy="0"/>
              </a:xfrm>
              <a:prstGeom prst="line">
                <a:avLst/>
              </a:prstGeom>
              <a:ln w="18360">
                <a:solidFill>
                  <a:srgbClr val="7f60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49400" y="2587320"/>
                <a:ext cx="1092600" cy="0"/>
              </a:xfrm>
              <a:prstGeom prst="line">
                <a:avLst/>
              </a:prstGeom>
              <a:ln w="18360">
                <a:solidFill>
                  <a:srgbClr val="7f60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4056480" y="1052640"/>
                <a:ext cx="6779160" cy="1663560"/>
                <a:chOff x="4056480" y="1052640"/>
                <a:chExt cx="6779160" cy="1663560"/>
              </a:xfrm>
            </p:grpSpPr>
            <p:pic>
              <p:nvPicPr>
                <p:cNvPr id="29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70160" y="1052640"/>
                  <a:ext cx="1328400" cy="166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6" name=""/>
                <p:cNvSpPr/>
                <p:nvPr/>
              </p:nvSpPr>
              <p:spPr>
                <a:xfrm>
                  <a:off x="4056480" y="1750680"/>
                  <a:ext cx="6779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Arial"/>
                    </a:rPr>
                    <a:t>PST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8520" y="2031480"/>
                <a:ext cx="878760" cy="78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8" name=""/>
              <p:cNvGrpSpPr/>
              <p:nvPr/>
            </p:nvGrpSpPr>
            <p:grpSpPr>
              <a:xfrm>
                <a:off x="1479600" y="2910600"/>
                <a:ext cx="6246360" cy="587520"/>
                <a:chOff x="1479600" y="2910600"/>
                <a:chExt cx="6246360" cy="5875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479600" y="3498120"/>
                  <a:ext cx="624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1479600" y="2910600"/>
                  <a:ext cx="0" cy="58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7725960" y="2910600"/>
                  <a:ext cx="0" cy="58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 flipV="1">
                <a:off x="3673080" y="2031120"/>
                <a:ext cx="53100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334480" y="1737360"/>
                <a:ext cx="531000" cy="58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56440" y="1174320"/>
                <a:ext cx="149508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Tel:881002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825560" y="1664640"/>
                <a:ext cx="157680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IP 10.110.0.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97880" y="3498480"/>
                <a:ext cx="172296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IP 129.102.0.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82080" y="1543680"/>
                <a:ext cx="157680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IP 10.110.0.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306480" y="3498480"/>
                <a:ext cx="17229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IP 129.102.0.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90000" y="1055520"/>
                <a:ext cx="13550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Tel:8810026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4360" y="1786320"/>
                <a:ext cx="0" cy="15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600400" y="1786320"/>
                <a:ext cx="0" cy="15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84360" y="2643480"/>
                <a:ext cx="35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243280" y="2522520"/>
                <a:ext cx="35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4" name="" descr=""/>
            <p:cNvPicPr/>
            <p:nvPr/>
          </p:nvPicPr>
          <p:blipFill>
            <a:blip r:embed="rId4"/>
            <a:stretch/>
          </p:blipFill>
          <p:spPr>
            <a:xfrm>
              <a:off x="993240" y="1998000"/>
              <a:ext cx="100620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5"/>
            <a:stretch/>
          </p:blipFill>
          <p:spPr>
            <a:xfrm>
              <a:off x="7270560" y="1998000"/>
              <a:ext cx="1006560" cy="10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(1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1844640"/>
            <a:ext cx="777744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Ethernet0]ip address 130.1.1.1 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Ethernet0]interface serial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ip address 129.102.0.1 255.255.0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standby interface seria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interface seria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physical-mode asyn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mo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ip address 10.110.0.1 255.255.0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dialer enable-leg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dialer-grou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dialer route ip 10.110.0.2 88100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qu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dialer-rule 1 ip per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ip route-static 131.1.1.0 255.255.255.0 129.102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ip route-static 131.1.1.0 255.255.255.0 10.110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80000" y="126828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配置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Route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(1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34920" y="1700280"/>
            <a:ext cx="8209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Ethernet0]ip address 131.1.1.1 255.255.255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Ethernet0]interface serial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ip address 129.102.0.2 255.255.0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interface serial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physical-mode asyn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mo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ip address 10.110.0.2 255.255.0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dialer enable-leg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dialer-grou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dialer route ip 10.110.0.1 88100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qu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dialer-rule 1 ip per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ip route-static 130.1.1.0 255.255.255.0 129.102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ip route-static 130.1.1.0 255.255.255.0 10.11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80000" y="112536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配置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Route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举例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(2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774720" cy="677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908000" y="3429000"/>
            <a:ext cx="15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IP 129.102.0.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64000" y="3502080"/>
            <a:ext cx="22910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IP 129.102.0.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547640" y="2925360"/>
            <a:ext cx="720720" cy="576360"/>
          </a:xfrm>
          <a:prstGeom prst="line">
            <a:avLst/>
          </a:prstGeom>
          <a:ln w="1836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877080" y="2997360"/>
            <a:ext cx="768240" cy="576000"/>
          </a:xfrm>
          <a:prstGeom prst="line">
            <a:avLst/>
          </a:prstGeom>
          <a:ln w="1836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68360" y="1773360"/>
            <a:ext cx="165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IP 10.110.0.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51640" y="1773360"/>
            <a:ext cx="143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IP 10.110.0.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979640" y="2060640"/>
            <a:ext cx="720720" cy="563400"/>
          </a:xfrm>
          <a:prstGeom prst="line">
            <a:avLst/>
          </a:prstGeom>
          <a:ln w="1836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59640" y="1989000"/>
            <a:ext cx="625320" cy="615960"/>
          </a:xfrm>
          <a:prstGeom prst="line">
            <a:avLst/>
          </a:prstGeom>
          <a:ln w="1836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1935000"/>
            <a:ext cx="9954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oute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23120" y="1989000"/>
            <a:ext cx="99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ou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84720" y="2925720"/>
            <a:ext cx="6271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X.2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5640" y="2997360"/>
            <a:ext cx="628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1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12000" y="2925720"/>
            <a:ext cx="628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84720" y="2349360"/>
            <a:ext cx="568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PP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414440" y="2866680"/>
            <a:ext cx="6307200" cy="346320"/>
            <a:chOff x="1414440" y="2866680"/>
            <a:chExt cx="6307200" cy="346320"/>
          </a:xfrm>
        </p:grpSpPr>
        <p:sp>
          <p:nvSpPr>
            <p:cNvPr id="339" name=""/>
            <p:cNvSpPr/>
            <p:nvPr/>
          </p:nvSpPr>
          <p:spPr>
            <a:xfrm>
              <a:off x="1414440" y="3213000"/>
              <a:ext cx="630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414440" y="28666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721640" y="28666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979640" y="2637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14560" y="4437000"/>
            <a:ext cx="70578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主接口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: Serial 0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的逻辑通道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备份接口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: Serial 1(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封装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PPP) 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每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10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秒检查主接口一次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299360" y="2295360"/>
            <a:ext cx="801720" cy="70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(2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1413000"/>
            <a:ext cx="809928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Ethernet0]ip address 130.1.1.1 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Ethernet0]interface serial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link-protocol x25 d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ip address 129.102.0.1 255.255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x25 x121-address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x25 map ip 129.102.0.2 x121-address 2000 logic-channel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q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logic-channel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logic-channel10]standby interface seria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logic-channel10]standby state-up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logic-channel10]q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interface seria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ip address 10.110.0.1 255.0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ip route-static 131.1.1.0 255.255.255.0 129.102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ip route-static 131.1.1.0 255.255.255.0 10.110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76960" y="981000"/>
            <a:ext cx="23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配置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Router1:</a:t>
            </a:r>
            <a:r>
              <a:rPr b="0" lang="zh-CN" sz="2800" spc="-1" strike="noStrike">
                <a:solidFill>
                  <a:srgbClr val="006699"/>
                </a:solidFill>
                <a:latin typeface="Arial Black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(2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1413000"/>
            <a:ext cx="7775280" cy="33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interface ethernet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Ethernet0]ip add 131.1.1.1 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Ethernet0]interface serial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link-protocol x25 d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ip address 129.102.0.2 255.255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x25 x121-addres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x25 map ip 129.102.0.1 x121-address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0]q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interface seria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-Serial1]ip address 10.110.0.2 255.0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ip route-static 130.1.1.0 255.255.255.0 129.102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[Quidway]ip route-static 130.1.1.0 255.255.255.0 10.11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5720" y="981000"/>
            <a:ext cx="25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配置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Router2:</a:t>
            </a:r>
            <a:r>
              <a:rPr b="0" lang="zh-CN" sz="2800" spc="-1" strike="noStrike">
                <a:solidFill>
                  <a:srgbClr val="006699"/>
                </a:solidFill>
                <a:latin typeface="Arial Black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94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6985080" cy="12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64560" indent="-28260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掌握备份中心的基本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能够在华为路由器上配置备份中心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1341360"/>
            <a:ext cx="65534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完本课程，您应该能够：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084720" y="2708280"/>
            <a:ext cx="2438280" cy="3200040"/>
            <a:chOff x="6084720" y="2708280"/>
            <a:chExt cx="2438280" cy="3200040"/>
          </a:xfrm>
        </p:grpSpPr>
        <p:sp>
          <p:nvSpPr>
            <p:cNvPr id="100" name=""/>
            <p:cNvSpPr/>
            <p:nvPr/>
          </p:nvSpPr>
          <p:spPr>
            <a:xfrm>
              <a:off x="6870960" y="282816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8640" y="444744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85480" y="445716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81320" y="271800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8960" y="433728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70960" y="297684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84720" y="346752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8560" y="412272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64280" y="354168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14680" y="402228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9240" y="282024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0080" y="283824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391032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55080" y="274572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0640" y="396648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71720" y="486396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6920" y="479808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22160" y="299448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47480" y="388260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90360" y="313488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44720" y="312480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72720" y="316080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95920" y="453960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18640" y="491868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80400" y="503028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90360" y="278208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38160" y="270828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79000" y="276408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34000" y="286632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1360" y="290232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17720" y="287460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44720" y="290232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82440" y="285624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07640" y="299448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35000" y="303264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52640" y="310680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79640" y="309672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79000" y="305064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17720" y="314316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94160" y="2894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48520" y="290232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10800" y="287460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11800" y="295848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59240" y="296640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31880" y="297684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61240" y="294048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31880" y="307836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4440" y="315288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82440" y="318060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71720" y="316080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44720" y="319896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72720" y="317088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8440" y="310680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01080" y="318888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73720" y="339336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31200" y="323496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58200" y="313488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8840" y="321696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5840" y="350352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09400" y="388260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95920" y="379008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35000" y="366192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2440" y="354960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83440" y="368784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69960" y="379008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48520" y="399456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65120" y="394848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47480" y="400248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94920" y="395640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12560" y="392832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47480" y="394848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08400" y="402228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64120" y="405864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50520" y="402228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05880" y="405864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00080" y="393840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22160" y="407664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91040" y="436320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88600" y="437328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56440" y="444744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41920" y="413280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8200" y="410472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40920" y="412272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1360" y="451152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77600" y="415116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86200" y="455760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36760" y="455760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0640" y="459576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62000" y="479808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3560" y="482616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6760" y="444744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47760" y="453960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28440" y="446544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38800" y="452952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08400" y="484416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48520" y="490032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57200" y="492876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3680" y="453960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4280" y="351324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59120" y="345744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8960" y="354960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64280" y="373608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32600" y="393840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37880" y="401256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4400" y="424296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76880" y="288432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44720" y="318060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03880" y="281052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28440" y="282024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38800" y="283824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48520" y="285624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38160" y="282816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09400" y="402228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73840" y="401256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90640" y="489024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25400" y="503856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49240" y="499284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问题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914400" y="3962520"/>
            <a:ext cx="2895480" cy="2481120"/>
            <a:chOff x="914400" y="3962520"/>
            <a:chExt cx="2895480" cy="2481120"/>
          </a:xfrm>
        </p:grpSpPr>
        <p:grpSp>
          <p:nvGrpSpPr>
            <p:cNvPr id="353" name=""/>
            <p:cNvGrpSpPr/>
            <p:nvPr/>
          </p:nvGrpSpPr>
          <p:grpSpPr>
            <a:xfrm>
              <a:off x="3048120" y="3962520"/>
              <a:ext cx="598320" cy="561960"/>
              <a:chOff x="3048120" y="3962520"/>
              <a:chExt cx="598320" cy="561960"/>
            </a:xfrm>
          </p:grpSpPr>
          <p:sp>
            <p:nvSpPr>
              <p:cNvPr id="354" name=""/>
              <p:cNvSpPr/>
              <p:nvPr/>
            </p:nvSpPr>
            <p:spPr>
              <a:xfrm>
                <a:off x="3182760" y="3962520"/>
                <a:ext cx="463680" cy="4082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8120" y="4402440"/>
                <a:ext cx="185400" cy="12204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914400" y="4114800"/>
              <a:ext cx="456840" cy="428400"/>
              <a:chOff x="914400" y="4114800"/>
              <a:chExt cx="456840" cy="428400"/>
            </a:xfrm>
          </p:grpSpPr>
          <p:sp>
            <p:nvSpPr>
              <p:cNvPr id="357" name=""/>
              <p:cNvSpPr/>
              <p:nvPr/>
            </p:nvSpPr>
            <p:spPr>
              <a:xfrm>
                <a:off x="1017000" y="4114800"/>
                <a:ext cx="354240" cy="31140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14400" y="445032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209680" y="3962520"/>
              <a:ext cx="456840" cy="428040"/>
              <a:chOff x="2209680" y="3962520"/>
              <a:chExt cx="456840" cy="428040"/>
            </a:xfrm>
          </p:grpSpPr>
          <p:sp>
            <p:nvSpPr>
              <p:cNvPr id="360" name=""/>
              <p:cNvSpPr/>
              <p:nvPr/>
            </p:nvSpPr>
            <p:spPr>
              <a:xfrm>
                <a:off x="2312280" y="3962520"/>
                <a:ext cx="354240" cy="3110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209680" y="429768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1219320" y="4267080"/>
              <a:ext cx="2590560" cy="21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09320" y="1125360"/>
            <a:ext cx="6107400" cy="27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备份中心有什么功能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什么是主接口和备份接口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哪些接口可以作为主接口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哪些接口可以作为备份接口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重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2738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掌握备份中心的基本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主备接口的切换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掌握备份中心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备份中心的配置命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当主接口是物理接口和逻辑接口时，有什么不同配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2692440" cy="978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924360" y="4437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技术有限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558972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公司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ww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技术论坛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rum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43480" y="242100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56080" y="327168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22160" y="1746360"/>
            <a:ext cx="152172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什么是备份中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备份中心基本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配置实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2360" y="200196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492360" y="284004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543480" y="417528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492360" y="3645000"/>
            <a:ext cx="2970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什么是备份中心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3645000"/>
            <a:ext cx="712944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Quidway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器中管理备份功能的模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运用备份中心可以提高网络的可靠性、可用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运用备份中心为路由器接口提供备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36720" y="1125360"/>
            <a:ext cx="9466920" cy="2086920"/>
            <a:chOff x="936720" y="1125360"/>
            <a:chExt cx="9466920" cy="20869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2745360" y="1959840"/>
              <a:ext cx="936360" cy="6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936720" y="1437480"/>
              <a:ext cx="9806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Quidwa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9480" y="1437480"/>
              <a:ext cx="98064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Quidw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19240" y="2614320"/>
              <a:ext cx="8622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Mode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9640" y="2618280"/>
              <a:ext cx="845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Mod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93240" y="2396160"/>
              <a:ext cx="937800" cy="0"/>
            </a:xfrm>
            <a:prstGeom prst="line">
              <a:avLst/>
            </a:prstGeom>
            <a:ln w="1836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27960" y="2433960"/>
              <a:ext cx="1164600" cy="0"/>
            </a:xfrm>
            <a:prstGeom prst="line">
              <a:avLst/>
            </a:prstGeom>
            <a:ln w="1836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090680" y="1125360"/>
              <a:ext cx="6312960" cy="1420200"/>
              <a:chOff x="4090680" y="1125360"/>
              <a:chExt cx="6312960" cy="1420200"/>
            </a:xfrm>
          </p:grpSpPr>
          <p:pic>
            <p:nvPicPr>
              <p:cNvPr id="2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90680" y="1125360"/>
                <a:ext cx="1416240" cy="142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4191480" y="1719360"/>
                <a:ext cx="621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PST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5934240" y="1959840"/>
              <a:ext cx="936000" cy="67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1" name=""/>
            <p:cNvGrpSpPr/>
            <p:nvPr/>
          </p:nvGrpSpPr>
          <p:grpSpPr>
            <a:xfrm>
              <a:off x="1328040" y="2710440"/>
              <a:ext cx="6660360" cy="501840"/>
              <a:chOff x="1328040" y="2710440"/>
              <a:chExt cx="6660360" cy="501840"/>
            </a:xfrm>
          </p:grpSpPr>
          <p:sp>
            <p:nvSpPr>
              <p:cNvPr id="242" name=""/>
              <p:cNvSpPr/>
              <p:nvPr/>
            </p:nvSpPr>
            <p:spPr>
              <a:xfrm>
                <a:off x="1328040" y="3212280"/>
                <a:ext cx="66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1328040" y="2710440"/>
                <a:ext cx="0" cy="5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988400" y="2710440"/>
                <a:ext cx="0" cy="5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flipV="1">
              <a:off x="3666240" y="1959480"/>
              <a:ext cx="56664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5439240" y="1709280"/>
              <a:ext cx="566640" cy="50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7598880" y="1850040"/>
              <a:ext cx="934560" cy="9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974160" y="1759680"/>
              <a:ext cx="934560" cy="95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备份中心的功能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90560" y="1525680"/>
            <a:ext cx="619452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主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被其他接口备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除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dialer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口外的其它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备份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备份其他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除以太口外的其它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任何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物理接口，子接口，逻辑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492360" y="285264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492360" y="1989000"/>
            <a:ext cx="297000" cy="304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43480" y="242100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56080" y="327168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2160" y="1746360"/>
            <a:ext cx="152172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什么是备份中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备份中心基本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配置实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543480" y="417528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3492360" y="3645000"/>
            <a:ext cx="2970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备份中心配置任务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55640" y="1182240"/>
            <a:ext cx="7632720" cy="295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进入将被备份的主接口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指定主接口使用的备用接口及其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设置主备接口切换的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配置逻辑通道状态的判断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配置备份负载分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进入主接口视图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1484280"/>
            <a:ext cx="77043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主接口是一物理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interface  </a:t>
            </a:r>
            <a:r>
              <a:rPr b="0" i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interface-type  interface-numb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主接口是一逻辑通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x25 map protocol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address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x121-address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x.121-add 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[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ogic-channel 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ogic-channel-num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fr map 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protocol address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dlci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dlci 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[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ogic-channel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logic-channel-num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dialer route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protocol next-hop dialer-string 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[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ogic-channel 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ogic-channel-num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ogic-channel 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logic-channel-numb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设定备份接口及优先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963720"/>
            <a:ext cx="8604000" cy="55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若备份接口是物理接口，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在主接口视图下指定备份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standby interface interface-type </a:t>
            </a:r>
            <a:r>
              <a:rPr b="0" i="1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interface-num [priority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若备份接口是逻辑通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在主接口视图下，指定备份逻辑通道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standby logic-channel</a:t>
            </a:r>
            <a:r>
              <a:rPr b="0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i="1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number  [ priority 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在备份接口视图下，建立逻辑通道与虚电路或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Dialer Route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的对应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x25 map protocol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address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x121-address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x.121-add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[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logic-channel 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logic-channel-num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fr map 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protocol address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dlci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dlci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[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logic-channel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logic-channel-num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dialer route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protocol next-hop dialer-string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[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logic-channel 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logic-channel-num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8:52:58Z</dcterms:created>
  <dc:creator>xw</dc:creator>
  <dc:description/>
  <dc:language>en-US</dc:language>
  <cp:lastModifiedBy>123</cp:lastModifiedBy>
  <cp:lastPrinted>2002-07-08T02:44:19Z</cp:lastPrinted>
  <dcterms:modified xsi:type="dcterms:W3CDTF">2004-01-04T02:21:58Z</dcterms:modified>
  <cp:revision>17</cp:revision>
  <dc:subject/>
  <dc:title>课程编码 课程名称</dc:title>
</cp:coreProperties>
</file>